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A5B-1DF3-4AF4-B93D-CEAF35D8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9E4-0D6F-4CAE-9FEB-583F121E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4B4-518C-4D1F-BEC4-ADB7E727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D7D-549F-4280-8C44-9E5F68F3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54E-6443-476A-A4A8-9E8827BC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46B-B767-4F70-8778-27C17E00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4E7-5AFE-4331-B4A6-5D0379C4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F83-6C46-4016-9FDF-5429D2DA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BAD-7815-4324-ADCA-40CC232D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C5D-1BA0-4D8D-87A3-C5FA041F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755-BBFF-4D3B-B995-F06D976F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AF1-21C7-4630-BA3E-8B7B34A7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D220-A9E9-46A5-B0AC-493242DCA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Literature Circ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group of peers that will read assigned sections of the book and help the group understand and analyze the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oup gets a grade (20) and each individual gets a grade(3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process, your group will be creating a culminating project that will be worth 75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cket contains 4 or 5 roles.  Assign a rotating system of roles so that each person has a role for each day (6 days total- I will give you extras on that da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come prepared each day with your role sheet comple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ember should participate and take notes during the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s for each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es 2/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s-Chap. 2 &amp;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 2/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. 3- Chap. 7 &amp;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 3/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. 8-Chap. 12 &amp;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quiz:  group work will sub for thos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 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. 13-Chap. 16 &amp;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 3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starts at 10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. 17-Chap. 20 &amp;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es 3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starts at 10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. 21-end &amp;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Paper Du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e Circles (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ie, John Michael, Mary Catherine, Chri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nger, Richard, St. Claire, J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se, Leigh, Tony, Gu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anor, Matthew, Bailey, L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ler M., Mary Alice, Mary Robb, Tyler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e Circles (3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deth, Frank, David S., Ed, David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, Hunter, Rita C., Miller, 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 Evelyn, Jay, Michael, G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n, Nick, Adelle, And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di, Jess, Jim, Th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e Circles (5t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ille, William, Merritt, D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, Ryan H., Becky, Sp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oking, Joanna, Will, Matth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art, Casey, Hunter, Frannie, R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hley, Allen, Ryan L., Bro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e Circles (7t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m, Reed, Lacey, Th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ck, Summerlin, Carol, Billy, W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alie, Matthew, Raines, Jonathan, D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rdon, Rebecca, Hal, Char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ences and Other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miss a day, it is your responsibility to get me your role sheet and to inform your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members will do a self and a group evaluation.  If you miss too many days, it is likely you will get a negative evaluation for your part of the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causing a problem or not doing their work in the group will do the work individually and the project individ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4:07:59Z</dcterms:created>
  <dc:creator>User</dc:creator>
  <dc:description/>
  <dc:language>en-US</dc:language>
  <cp:lastModifiedBy>User</cp:lastModifiedBy>
  <dcterms:modified xsi:type="dcterms:W3CDTF">2007-02-26T18:35:45Z</dcterms:modified>
  <cp:revision>4</cp:revision>
  <dc:subject/>
  <dc:title>What is a Literature Circle?</dc:title>
</cp:coreProperties>
</file>